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2BBC-7F3A-4149-A952-E0F870E10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1F6C-3854-44F9-BE51-3D8246AF8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331CDF12-F3F3-40B7-A69C-517BD0AC295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CE5-EB83-4227-9D2E-B7A380EE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F9C-9554-40ED-AC62-3963BDA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60E-2CF4-4BA3-9ED3-0F9F98D3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B93-D4C7-41A9-A712-5FE2DFC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40B-1A63-4CF1-B332-4D366C08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1A9-84CD-4030-A481-6C164340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A0A-EF12-49DC-820C-BAD2969C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890-DBBA-4F98-B44A-AB8EFAC2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C1A-997E-417C-A04A-0EC4534D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373-1EE0-45E8-92E8-083B67AA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600-07A9-47E7-8506-8EDF21DA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FE7-BB18-4E1D-BE6F-A7E0CF09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533520" y="1509840"/>
            <a:ext cx="6324480" cy="0"/>
          </a:xfrm>
          <a:prstGeom prst="line">
            <a:avLst/>
          </a:prstGeom>
          <a:ln w="44280">
            <a:solidFill>
              <a:srgbClr val="ff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2120" y="167616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008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858000" y="1417680"/>
            <a:ext cx="1828800" cy="182520"/>
          </a:xfrm>
          <a:prstGeom prst="rect">
            <a:avLst/>
          </a:prstGeom>
          <a:solidFill>
            <a:srgbClr val="008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ff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ipms_logo"/>
          <p:cNvPicPr/>
          <p:nvPr/>
        </p:nvPicPr>
        <p:blipFill>
          <a:blip r:embed="rId2"/>
          <a:stretch/>
        </p:blipFill>
        <p:spPr>
          <a:xfrm>
            <a:off x="0" y="4952880"/>
            <a:ext cx="64152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ilri-logo"/>
          <p:cNvPicPr/>
          <p:nvPr/>
        </p:nvPicPr>
        <p:blipFill>
          <a:blip r:embed="rId3"/>
          <a:stretch/>
        </p:blipFill>
        <p:spPr>
          <a:xfrm>
            <a:off x="76320" y="6172200"/>
            <a:ext cx="5475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576D-0B97-4546-B81F-B22A0A0CC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008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0" y="4876920"/>
            <a:ext cx="990720" cy="0"/>
          </a:xfrm>
          <a:prstGeom prst="line">
            <a:avLst/>
          </a:prstGeom>
          <a:ln w="50760">
            <a:solidFill>
              <a:srgbClr val="ff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MOARD-logo"/>
          <p:cNvPicPr/>
          <p:nvPr/>
        </p:nvPicPr>
        <p:blipFill>
          <a:blip r:embed="rId2"/>
          <a:stretch/>
        </p:blipFill>
        <p:spPr>
          <a:xfrm>
            <a:off x="2476440" y="6129360"/>
            <a:ext cx="221004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IDA Logo"/>
          <p:cNvPicPr/>
          <p:nvPr/>
        </p:nvPicPr>
        <p:blipFill>
          <a:blip r:embed="rId3"/>
          <a:stretch/>
        </p:blipFill>
        <p:spPr>
          <a:xfrm>
            <a:off x="6400800" y="6248520"/>
            <a:ext cx="243828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990720" y="3505320"/>
            <a:ext cx="7772400" cy="2438280"/>
          </a:xfrm>
          <a:prstGeom prst="rect">
            <a:avLst/>
          </a:prstGeom>
          <a:solidFill>
            <a:srgbClr val="ffb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173240" y="3693960"/>
            <a:ext cx="7405560" cy="2062440"/>
          </a:xfrm>
          <a:prstGeom prst="rect">
            <a:avLst/>
          </a:prstGeom>
          <a:solidFill>
            <a:srgbClr val="ffffe1"/>
          </a:solidFill>
          <a:ln w="15840">
            <a:solidFill>
              <a:srgbClr val="008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ipms_logo"/>
          <p:cNvPicPr/>
          <p:nvPr/>
        </p:nvPicPr>
        <p:blipFill>
          <a:blip r:embed="rId4"/>
          <a:stretch/>
        </p:blipFill>
        <p:spPr>
          <a:xfrm>
            <a:off x="76320" y="5029200"/>
            <a:ext cx="71100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ilri-logo"/>
          <p:cNvPicPr/>
          <p:nvPr/>
        </p:nvPicPr>
        <p:blipFill>
          <a:blip r:embed="rId5"/>
          <a:stretch/>
        </p:blipFill>
        <p:spPr>
          <a:xfrm>
            <a:off x="144360" y="6019920"/>
            <a:ext cx="617760" cy="685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62120" y="167616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66"/>
                </a:solidFill>
                <a:latin typeface="Arial"/>
              </a:rPr>
              <a:t>Characterizing study sites</a:t>
            </a: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400"/>
            </a:b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2 Baseline training</a:t>
            </a: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716840" y="5867280"/>
            <a:ext cx="53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emayehu Belay, Gerba Leta &amp; Kebebe Erg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 Oc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520" y="609480"/>
            <a:ext cx="67816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Identified watersheds and Kebeles covered</a:t>
            </a:r>
            <a:endParaRPr b="0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1295280"/>
          <a:ext cx="7435800" cy="5278680"/>
        </p:xfrm>
        <a:graphic>
          <a:graphicData uri="http://schemas.openxmlformats.org/drawingml/2006/table">
            <a:tbl>
              <a:tblPr/>
              <a:tblGrid>
                <a:gridCol w="974880"/>
                <a:gridCol w="1199880"/>
                <a:gridCol w="3287880"/>
                <a:gridCol w="19731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e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be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r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d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ja/Melk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tidenku,Chilanko,Tulubultuma Bicho, Tulugu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ley,potato,Enset,fallo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lugurgi,Kologela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ff, maize, whea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ralelisa, Chenchekebena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gh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u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ff-barle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jokotebula, Ferdas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Sorghum, millet,sesame, cof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e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w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ge, Chilmana Damo, Areb Amba, Shenko, Hagere Sela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Barley,Ginger s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har Mikael, Sha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arate watershed (Ric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Human Population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05120" y="1981080"/>
          <a:ext cx="6629400" cy="4114800"/>
        </p:xfrm>
        <a:graphic>
          <a:graphicData uri="http://schemas.openxmlformats.org/drawingml/2006/table">
            <a:tbl>
              <a:tblPr/>
              <a:tblGrid>
                <a:gridCol w="1752480"/>
                <a:gridCol w="2438280"/>
                <a:gridCol w="2438640"/>
              </a:tblGrid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e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/H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,6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9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,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Agro ecology, altitude, RF</a:t>
            </a:r>
            <a:endParaRPr b="0" lang="en-US" sz="3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 pattern – erratic (Jeldu &amp;Fogera), Uniform (Di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76520" y="1905120"/>
          <a:ext cx="7238880" cy="4597200"/>
        </p:xfrm>
        <a:graphic>
          <a:graphicData uri="http://schemas.openxmlformats.org/drawingml/2006/table">
            <a:tbl>
              <a:tblPr/>
              <a:tblGrid>
                <a:gridCol w="1447560"/>
                <a:gridCol w="381024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e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 ec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d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land(25%), Midland(30%) &amp;Highland (4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5-3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land (40%) &amp; Lowland (6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0-23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e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land/plain(75%) &amp;Highland (2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4-2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General historical trends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M interventions (soil conservation) done during the Derg reg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organized NRM efforts in Fog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Farming System</a:t>
            </a:r>
            <a:endParaRPr b="0" lang="en-US" sz="3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p-Livestock mix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gera – Midland/Plain (Rice with 20% coverage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 of  the total arable 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ighland (Maize, Barley, Niger se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a – Midland (Teff, Millet, Maiz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owland (Maize, sorghum, ses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ldu – highland (Barley, wheat, pota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idland (Wheat, barley, te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owland (Sorghum, maize te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Land Use patterns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76520" y="1752480"/>
          <a:ext cx="7391160" cy="4876920"/>
        </p:xfrm>
        <a:graphic>
          <a:graphicData uri="http://schemas.openxmlformats.org/drawingml/2006/table">
            <a:tbl>
              <a:tblPr/>
              <a:tblGrid>
                <a:gridCol w="1676160"/>
                <a:gridCol w="1905120"/>
                <a:gridCol w="1523880"/>
                <a:gridCol w="228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use type (h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57 (43.4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17 (68.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745.5 (67.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zing 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50 (35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9 (12.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87 (14.5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 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0 (3.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94 (16.9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5.3 (4.7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82 (37.4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8 (2.6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86.1 (12.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38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8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8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Average Land and cattle holdings per HH</a:t>
            </a:r>
            <a:endParaRPr b="0" lang="en-US" sz="3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l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ha of land and 10 c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ha of land and 9 c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g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ha of land and 6 c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Crop-livestock contribution to the livelihood (source of income)</a:t>
            </a:r>
            <a:endParaRPr b="0" lang="en-US" sz="30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981080" y="2286000"/>
          <a:ext cx="6570720" cy="3178080"/>
        </p:xfrm>
        <a:graphic>
          <a:graphicData uri="http://schemas.openxmlformats.org/drawingml/2006/table">
            <a:tbl>
              <a:tblPr/>
              <a:tblGrid>
                <a:gridCol w="2190960"/>
                <a:gridCol w="2189160"/>
                <a:gridCol w="2190600"/>
              </a:tblGrid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e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contribution (on averag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stoc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d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er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782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Formal Institutions</a:t>
            </a:r>
            <a:endParaRPr b="0" lang="en-US" sz="3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1966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vernment line depart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iculture, livestock, cooperative, water, administration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vate enterprises/Associ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 and Saving, traders, coop unions, farmers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eldu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pe2020, Hunger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ger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MS, EWN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ga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6:19:18Z</dcterms:created>
  <dc:creator>aduncan</dc:creator>
  <dc:description/>
  <dc:language>en-US</dc:language>
  <cp:lastModifiedBy>kergano</cp:lastModifiedBy>
  <dcterms:modified xsi:type="dcterms:W3CDTF">2010-11-08T05:55:05Z</dcterms:modified>
  <cp:revision>361</cp:revision>
  <dc:subject/>
  <dc:title>Enhancing livelihoods of poor livestock keepers through increasing use of fodder (IFAD Technical Assistance Grant 853) Co-ordination Workshop. Aleppo, Syria 12-14 Dec 2007</dc:title>
</cp:coreProperties>
</file>